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7F3FE-F7B4-4737-BC44-88E0656E1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689F-A83C-431C-8778-546D0D39C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CFB7-4F26-43D9-BF2A-CD4784754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477CD-B8A0-470A-B3E8-54684A60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ADEFD-182B-47B8-9545-42660FA00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E0E0-BAA8-4EE7-92FA-2A34DBD4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09950-E2AE-4380-A023-A9D907A33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2CAA6-4628-42F9-8377-9BC564FC6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E18DD-2D00-41DF-835A-086F936B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4F4F6-ADA7-4AE7-93F1-F53682EF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FF9F-B134-44A4-A8B0-D1F11F4E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4F336-8367-4EB9-8047-9014E7376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7F48-9ED8-4927-AA25-D2C6FD833A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bs.org/faithandreason/gengloss/metaph-body.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685800"/>
            <a:ext cx="75438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000000"/>
                </a:solidFill>
                <a:latin typeface="Calibri"/>
              </a:rPr>
              <a:t>Post-modern Literature</a:t>
            </a:r>
            <a:br>
              <a:rPr sz="7200"/>
            </a:br>
            <a:br>
              <a:rPr sz="7200"/>
            </a:br>
            <a:br>
              <a:rPr sz="2800"/>
            </a:br>
            <a:r>
              <a:rPr b="0" lang="es-ES_tradnl" sz="2800" spc="-1" strike="noStrike">
                <a:solidFill>
                  <a:srgbClr val="000000"/>
                </a:solidFill>
                <a:latin typeface="Calibri"/>
              </a:rPr>
              <a:t>History of English Literatur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radox of the postmodern position is that, in placing all principles under the scrutiny of its skepticism, it must realize that even its own principles are not beyond questioning. As the philospher Richard Tarnas states, postmodernism "cannot on its own principles ultimately justify itself any more than can the various </a:t>
            </a:r>
            <a:r>
              <a:rPr b="0" lang="en-US" sz="3200" spc="-1" strike="noStrike" u="sng">
                <a:solidFill>
                  <a:srgbClr val="0000ff"/>
                </a:solidFill>
                <a:uFillTx/>
                <a:latin typeface="Calibri"/>
                <a:hlinkClick r:id="rId1"/>
              </a:rPr>
              <a:t>metaphysical</a:t>
            </a:r>
            <a:r>
              <a:rPr b="0" lang="en-US" sz="3200" spc="-1" strike="noStrike">
                <a:solidFill>
                  <a:srgbClr val="000000"/>
                </a:solidFill>
                <a:latin typeface="Calibri"/>
              </a:rPr>
              <a:t> overviews against which the postmodern mind has defined itself."</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remodernism:</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ginal meaning is possessed by authority (for example, the Catholic Church). The individual is dominated by trad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Modernism:</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nlightenment-humanist rejection of tradition and authority in favour of reason and natural science. This is founded upon the assumption of the autonomous individual as the sole source of meaning and truth--the Cartesian cogito. Progress and novelty are valorized within a linear conception of history--a history of a "real" world that becomes increasingly real or objectified. One could view this as a Protestant mode of conscious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postmodernis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jection of the sovereign autonomous individual with an emphasis upon anarchic collective, anonymous experience. Collage, diversity, the mystically unrepresentable, Dionysian passion are the foci of attention. Most importantly we see the dissolution of distinctions, the merging of subject and object, self and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Questions we shall discus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What is lit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What is the value of a literary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What is a text? What is a translated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What is an author? What is a transl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How influential are concepts like otherness, poststructuralism, postcolonial studies for the practice of tran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2514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4000" spc="-1" strike="noStrike">
                <a:solidFill>
                  <a:srgbClr val="000000"/>
                </a:solidFill>
                <a:latin typeface="Calibri"/>
              </a:rPr>
              <a:t>Literary Theory has tried to answer the question:</a:t>
            </a:r>
            <a:br>
              <a:rPr sz="4000"/>
            </a:br>
            <a:r>
              <a:rPr b="0" lang="es-ES_tradnl" sz="4000" spc="-1" strike="noStrike">
                <a:solidFill>
                  <a:srgbClr val="000000"/>
                </a:solidFill>
                <a:latin typeface="Calibri"/>
              </a:rPr>
              <a:t>“What is Literature?”</a:t>
            </a:r>
            <a:br>
              <a:rPr sz="4000"/>
            </a:br>
            <a:br>
              <a:rPr sz="4000"/>
            </a:br>
            <a:r>
              <a:rPr b="0" lang="es-ES_tradnl" sz="4000" spc="-1" strike="noStrike">
                <a:solidFill>
                  <a:srgbClr val="000000"/>
                </a:solidFill>
                <a:latin typeface="Calibri"/>
              </a:rPr>
              <a:t>In postmodern world, literature is just another tex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45684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For Roland Barthes:</a:t>
            </a:r>
            <a:br>
              <a:rPr sz="4400"/>
            </a:br>
            <a:r>
              <a:rPr b="0" lang="es-ES_tradnl" sz="4400" spc="-1" strike="noStrike">
                <a:solidFill>
                  <a:srgbClr val="000000"/>
                </a:solidFill>
                <a:latin typeface="Calibri"/>
              </a:rPr>
              <a:t>A Text is self-conscious </a:t>
            </a:r>
            <a:br>
              <a:rPr sz="4400"/>
            </a:br>
            <a:r>
              <a:rPr b="0" lang="es-ES_tradnl" sz="4400" spc="-1" strike="noStrike">
                <a:solidFill>
                  <a:srgbClr val="000000"/>
                </a:solidFill>
                <a:latin typeface="Calibri"/>
              </a:rPr>
              <a:t>and productive.</a:t>
            </a:r>
            <a:br>
              <a:rPr sz="4400"/>
            </a:br>
            <a:r>
              <a:rPr b="0" lang="es-ES_tradnl" sz="4400" spc="-1" strike="noStrike">
                <a:solidFill>
                  <a:srgbClr val="000000"/>
                </a:solidFill>
                <a:latin typeface="Calibri"/>
              </a:rPr>
              <a:t>The Text is an activity of production that is end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alibri"/>
              </a:rPr>
              <a:t>Barthes makes the difference between:</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n ‘answering work’ (modern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 ‘questioning text’ (postmodernis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 text that never stops producing itself as textua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 text that never ceases to be a ques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hat is inexhaustibly questioning and questionabl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Isn’t it the definiton of a translated Tex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Modernism</a:t>
            </a:r>
            <a:endParaRPr b="0" lang="en-US" sz="4400" spc="-1" strike="noStrike">
              <a:solidFill>
                <a:srgbClr val="000000"/>
              </a:solidFill>
              <a:latin typeface="Calibri"/>
            </a:endParaRPr>
          </a:p>
        </p:txBody>
      </p:sp>
      <p:sp>
        <p:nvSpPr>
          <p:cNvPr id="7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Characterized by a loss of fait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Human sensibility has been destroyed by industrialized mass cult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ultiple points of vie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iscontinous narra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Fragmentary structure</a:t>
            </a:r>
            <a:endParaRPr b="0" lang="en-US" sz="2800" spc="-1" strike="noStrike">
              <a:solidFill>
                <a:srgbClr val="000000"/>
              </a:solidFill>
              <a:latin typeface="Calibri"/>
            </a:endParaRPr>
          </a:p>
        </p:txBody>
      </p:sp>
      <p:sp>
        <p:nvSpPr>
          <p:cNvPr id="7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bsence of authorial c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xperiments with textual means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he most famous of these is “Stream-of-consciousne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From ‘meaning-to-say’ to ‘meaning-as- pl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Postmodernism</a:t>
            </a:r>
            <a:endParaRPr b="0" lang="en-US" sz="4400" spc="-1" strike="noStrike">
              <a:solidFill>
                <a:srgbClr val="000000"/>
              </a:solidFill>
              <a:latin typeface="Calibri"/>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verything is a ‘text’ as differentiated from a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nying special value to literary tex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Nothing is centr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exts are assemblages of ‘surfac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eaning-as-play.</a:t>
            </a:r>
            <a:endParaRPr b="0" lang="en-US" sz="2800" spc="-1" strike="noStrike">
              <a:solidFill>
                <a:srgbClr val="000000"/>
              </a:solidFill>
              <a:latin typeface="Calibri"/>
            </a:endParaRPr>
          </a:p>
        </p:txBody>
      </p:sp>
      <p:sp>
        <p:nvSpPr>
          <p:cNvPr id="7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iterary Studies should be seen as the pragmatics of wri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uch an object is closer to a tex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A text that allows pragmatics to be understood as eth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at is postmodernism?</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ly, postmodernism was a movement in architecture that rejected the modernist, passion for the new. Modernism is here understood in art and architecture as the project of rejecting tradition in favour of going "where no man has gone before" or better: to create forms for no other purpose than novelty. </a:t>
            </a:r>
            <a:endParaRPr b="0" lang="en-US" sz="3200" spc="-1" strike="noStrike">
              <a:solidFill>
                <a:srgbClr val="000000"/>
              </a:solidFill>
              <a:latin typeface="Calibri"/>
            </a:endParaRPr>
          </a:p>
        </p:txBody>
      </p:sp>
      <p:sp>
        <p:nvSpPr>
          <p:cNvPr id="44" name="Ink 4"/>
          <p:cNvSpPr/>
          <p:nvPr/>
        </p:nvSpPr>
        <p:spPr>
          <a:xfrm>
            <a:off x="905040" y="4510080"/>
            <a:ext cx="5265720" cy="130320"/>
          </a:xfrm>
          <a:custGeom>
            <a:avLst/>
            <a:gdLst/>
            <a:ahLst/>
            <a:rect l="l" t="t" r="r" b="b"/>
            <a:pathLst>
              <a:path w="14629" h="359">
                <a:moveTo>
                  <a:pt x="2513" y="12530"/>
                </a:moveTo>
                <a:cubicBezTo>
                  <a:pt x="3136" y="12575"/>
                  <a:pt x="3756" y="12559"/>
                  <a:pt x="4381" y="12578"/>
                </a:cubicBezTo>
                <a:cubicBezTo>
                  <a:pt x="5623" y="12616"/>
                  <a:pt x="6861" y="12729"/>
                  <a:pt x="8101" y="12807"/>
                </a:cubicBezTo>
                <a:cubicBezTo>
                  <a:pt x="8925" y="12859"/>
                  <a:pt x="9748" y="12852"/>
                  <a:pt x="10573" y="12874"/>
                </a:cubicBezTo>
                <a:cubicBezTo>
                  <a:pt x="11784" y="12906"/>
                  <a:pt x="12996" y="12864"/>
                  <a:pt x="14205" y="12797"/>
                </a:cubicBezTo>
                <a:cubicBezTo>
                  <a:pt x="14604" y="12775"/>
                  <a:pt x="15006" y="12774"/>
                  <a:pt x="15406" y="12764"/>
                </a:cubicBezTo>
                <a:cubicBezTo>
                  <a:pt x="15724" y="12756"/>
                  <a:pt x="16063" y="12741"/>
                  <a:pt x="16372" y="12738"/>
                </a:cubicBezTo>
                <a:cubicBezTo>
                  <a:pt x="16403" y="12738"/>
                  <a:pt x="16411" y="12735"/>
                  <a:pt x="16447" y="12735"/>
                </a:cubicBezTo>
                <a:cubicBezTo>
                  <a:pt x="16684" y="12737"/>
                  <a:pt x="16914" y="12735"/>
                  <a:pt x="17139" y="12705"/>
                </a:cubicBezTo>
                <a:cubicBezTo>
                  <a:pt x="17128" y="12699"/>
                  <a:pt x="17117" y="12692"/>
                  <a:pt x="17104" y="126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For Lyotard </a:t>
            </a:r>
            <a:r>
              <a:rPr b="0" lang="es-ES_tradnl" sz="3600" spc="-1" strike="noStrike">
                <a:solidFill>
                  <a:srgbClr val="000000"/>
                </a:solidFill>
                <a:latin typeface="Calibri"/>
              </a:rPr>
              <a:t>(</a:t>
            </a:r>
            <a:r>
              <a:rPr b="0" i="1" lang="es-ES_tradnl" sz="3600" spc="-1" strike="noStrike">
                <a:solidFill>
                  <a:srgbClr val="000000"/>
                </a:solidFill>
                <a:latin typeface="Calibri"/>
              </a:rPr>
              <a:t>The Postmodern Condition):</a:t>
            </a:r>
            <a:endParaRPr b="0" lang="en-US" sz="3600" spc="-1" strike="noStrike">
              <a:solidFill>
                <a:srgbClr val="000000"/>
              </a:solidFill>
              <a:latin typeface="Calibri"/>
            </a:endParaRPr>
          </a:p>
        </p:txBody>
      </p:sp>
      <p:sp>
        <p:nvSpPr>
          <p:cNvPr id="81" name=""/>
          <p:cNvSpPr txBox="1"/>
          <p:nvPr/>
        </p:nvSpPr>
        <p:spPr>
          <a:xfrm>
            <a:off x="990720" y="1752480"/>
            <a:ext cx="7772400" cy="4191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ostmodernism i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rule produc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 opposed to rule imitating.</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ostmodern theory is alway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postmodern literary theory</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ven when it is about</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architecture</a:t>
            </a:r>
            <a:endParaRPr b="0" lang="en-US" sz="19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television...</a:t>
            </a:r>
            <a:endParaRPr b="0" lang="en-US" sz="19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as it privileges the auto-poesic text over all oth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For Lacoue-Labarthe and Nancy:</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ostmodernism in Literature means “That something new”, which i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he literary absolute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he absolute of literature, that i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oies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duc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inspi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1925280"/>
            <a:ext cx="7057800" cy="264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Calibri"/>
              </a:rPr>
              <a:t>The Death of History</a:t>
            </a:r>
            <a:br>
              <a:rPr sz="4300"/>
            </a:br>
            <a:r>
              <a:rPr b="0" lang="es-ES_tradnl" sz="4300" spc="-1" strike="noStrike">
                <a:solidFill>
                  <a:srgbClr val="000000"/>
                </a:solidFill>
                <a:latin typeface="Calibri"/>
              </a:rPr>
              <a:t>The  Death of Criticism</a:t>
            </a:r>
            <a:br>
              <a:rPr sz="4300"/>
            </a:br>
            <a:r>
              <a:rPr b="0" lang="es-ES_tradnl" sz="4300" spc="-1" strike="noStrike">
                <a:solidFill>
                  <a:srgbClr val="000000"/>
                </a:solidFill>
                <a:latin typeface="Calibri"/>
              </a:rPr>
              <a:t>The Death of Theory</a:t>
            </a:r>
            <a:br>
              <a:rPr sz="4300"/>
            </a:br>
            <a:endParaRPr b="0" lang="en-US" sz="43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The Death of History</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For language to have meaning, culture has to have value and history have to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But, </a:t>
            </a:r>
            <a:r>
              <a:rPr b="1" lang="es-ES_tradnl" sz="3200" spc="-1" strike="noStrike">
                <a:solidFill>
                  <a:srgbClr val="000000"/>
                </a:solidFill>
                <a:latin typeface="Calibri"/>
              </a:rPr>
              <a:t>history is a lie</a:t>
            </a:r>
            <a:r>
              <a:rPr b="0" lang="es-ES_tradnl" sz="3200" spc="-1" strike="noStrike">
                <a:solidFill>
                  <a:srgbClr val="000000"/>
                </a:solidFill>
                <a:latin typeface="Calibri"/>
              </a:rPr>
              <a:t> by which culture disguises the fact of its naturally savage interests and practices in the name of human progress and welf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hen it cannot be possible to have faith in the power of language to convey plain tr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The absence of history as a metanarrative gives rise to:</a:t>
            </a:r>
            <a:endParaRPr b="0" lang="en-US" sz="40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he dehistorization of contex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he reconception of: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iterary tex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knowled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sig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he production of something new (romantic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The Death of Criticism</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xts are more than writing due to the multimedia possi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t>
            </a:r>
            <a:r>
              <a:rPr b="0" lang="es-ES_tradnl" sz="3200" spc="-1" strike="noStrike">
                <a:solidFill>
                  <a:srgbClr val="000000"/>
                </a:solidFill>
                <a:latin typeface="Calibri"/>
              </a:rPr>
              <a:t>Literature’ then, cannot be regarded as a stable stru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Any literary text cannot be exhausted by any act of reading or interpre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Literature has no ess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The Death of Theor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o apprehend the aesthetic value of litera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theory is an obstacle if it pretends to be prescrip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it obstructs the passage to a ‘love’ or a ‘feeling for the aesthe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For Foucault</a:t>
            </a:r>
            <a:endParaRPr b="0" lang="en-US" sz="4400" spc="-1" strike="noStrike">
              <a:solidFill>
                <a:srgbClr val="000000"/>
              </a:solidFill>
              <a:latin typeface="Calibri"/>
            </a:endParaRPr>
          </a:p>
        </p:txBody>
      </p:sp>
      <p:sp>
        <p:nvSpPr>
          <p:cNvPr id="95" name=""/>
          <p:cNvSpPr txBox="1"/>
          <p:nvPr/>
        </p:nvSpPr>
        <p:spPr>
          <a:xfrm>
            <a:off x="990720" y="1523880"/>
            <a:ext cx="7772400" cy="41148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Theory is an art</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olitics is an art</a:t>
            </a:r>
            <a:endParaRPr b="0" lang="en-US" sz="30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thics is an art </a:t>
            </a:r>
            <a:r>
              <a:rPr b="0" lang="es-ES_tradnl" sz="2600" spc="-1" strike="noStrike">
                <a:solidFill>
                  <a:srgbClr val="000000"/>
                </a:solidFill>
                <a:latin typeface="Calibri"/>
              </a:rPr>
              <a:t>(a practice of Concept Creation)</a:t>
            </a:r>
            <a:endParaRPr b="0" lang="en-US" sz="26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Pragmatics is an ethic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they require skills on “how to procee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they require certain judgment as opposed to determining law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dispersion as opposed to synthesi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from the ‘what’ to the ‘how’.</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What is an ethical decision in translation?</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t is an aesthetic and/or textual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t is both ‘appreciation’ and ‘oblig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f through translation we can show how it is possible to appreciate the cultural values of literature we are thus engaged in a social prac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uch an ethics is based on the knowledge that every system is dysfunction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142640"/>
            <a:ext cx="7772400" cy="19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What is then a text?</a:t>
            </a:r>
            <a:endParaRPr b="0" lang="en-US" sz="4400" spc="-1" strike="noStrike">
              <a:solidFill>
                <a:srgbClr val="000000"/>
              </a:solidFill>
              <a:latin typeface="Calibri"/>
            </a:endParaRPr>
          </a:p>
        </p:txBody>
      </p:sp>
      <p:sp>
        <p:nvSpPr>
          <p:cNvPr id="99" name="PlaceHolder 2"/>
          <p:cNvSpPr>
            <a:spLocks noGrp="1"/>
          </p:cNvSpPr>
          <p:nvPr>
            <p:ph type="subTitle"/>
          </p:nvPr>
        </p:nvSpPr>
        <p:spPr>
          <a:xfrm>
            <a:off x="1600200" y="304812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A text is an assemblage, not an essence, that relates theory and pragmatics establishing relations with history, politics and socie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nism was an exploration of possibilities and a perpetual search for uniqueness and its cognate--individuality. Modernism's valorization of the new was rejected by architectural postmodernism in the 50's and 60's for conservative reas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What is then a translated text?</a:t>
            </a:r>
            <a:endParaRPr b="0" lang="en-US" sz="4400" spc="-1" strike="noStrike">
              <a:solidFill>
                <a:srgbClr val="000000"/>
              </a:solidFill>
              <a:latin typeface="Calibri"/>
            </a:endParaRPr>
          </a:p>
        </p:txBody>
      </p:sp>
      <p:sp>
        <p:nvSpPr>
          <p:cNvPr id="101" name="PlaceHolder 2"/>
          <p:cNvSpPr>
            <a:spLocks noGrp="1"/>
          </p:cNvSpPr>
          <p:nvPr>
            <p:ph type="subTitle"/>
          </p:nvPr>
        </p:nvSpPr>
        <p:spPr>
          <a:xfrm>
            <a:off x="1676520" y="1523520"/>
            <a:ext cx="6400800" cy="22100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98989"/>
                </a:solidFill>
                <a:latin typeface="Calibri"/>
              </a:rPr>
              <a:t>A translated text is an assemblage, not an essence, that relates theory of translation and pragmatics of translation, establishing relations with the historical, political and sociological context of the text, and establishing relations with the history of translation, the politics of translation and the sociological context of transl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Thank you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anted to maintain elements of modern utility while returning to the reassuring classical forms of the past. The result of this was an ironic brick-a-brack or </a:t>
            </a:r>
            <a:r>
              <a:rPr b="0" i="1" lang="en-US" sz="3200" spc="-1" strike="noStrike">
                <a:solidFill>
                  <a:srgbClr val="000000"/>
                </a:solidFill>
                <a:latin typeface="Calibri"/>
              </a:rPr>
              <a:t>collage</a:t>
            </a:r>
            <a:r>
              <a:rPr b="0" lang="en-US" sz="3200" spc="-1" strike="noStrike">
                <a:solidFill>
                  <a:srgbClr val="000000"/>
                </a:solidFill>
                <a:latin typeface="Calibri"/>
              </a:rPr>
              <a:t> approach to construction that combines several traditional styles into one structure. As collage, meaning is found in combinations of </a:t>
            </a:r>
            <a:r>
              <a:rPr b="0" i="1" lang="en-US" sz="3200" spc="-1" strike="noStrike">
                <a:solidFill>
                  <a:srgbClr val="000000"/>
                </a:solidFill>
                <a:latin typeface="Calibri"/>
              </a:rPr>
              <a:t>already</a:t>
            </a:r>
            <a:r>
              <a:rPr b="0" lang="en-US" sz="3200" spc="-1" strike="noStrike">
                <a:solidFill>
                  <a:srgbClr val="000000"/>
                </a:solidFill>
                <a:latin typeface="Calibri"/>
              </a:rPr>
              <a:t> created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eneral and wide-ranging term which is applied to literature, art, philosophy, architecture, fiction, and cultural and literary criticism, among others. Postmodernism is largely a reaction to the assumed certainty of scientific, or objective, efforts to explain reality. </a:t>
            </a:r>
            <a:endParaRPr b="0" lang="en-US" sz="3200" spc="-1" strike="noStrike">
              <a:solidFill>
                <a:srgbClr val="000000"/>
              </a:solidFill>
              <a:latin typeface="Calibri"/>
            </a:endParaRPr>
          </a:p>
        </p:txBody>
      </p:sp>
      <p:sp>
        <p:nvSpPr>
          <p:cNvPr id="51" name="Ink 4"/>
          <p:cNvSpPr/>
          <p:nvPr/>
        </p:nvSpPr>
        <p:spPr>
          <a:xfrm>
            <a:off x="684360" y="4051440"/>
            <a:ext cx="7791480" cy="520560"/>
          </a:xfrm>
          <a:custGeom>
            <a:avLst/>
            <a:gdLst/>
            <a:ahLst/>
            <a:rect l="l" t="t" r="r" b="b"/>
            <a:pathLst>
              <a:path w="21642" h="1446">
                <a:moveTo>
                  <a:pt x="8453" y="12471"/>
                </a:moveTo>
                <a:cubicBezTo>
                  <a:pt x="8438" y="12443"/>
                  <a:pt x="8427" y="12418"/>
                  <a:pt x="8414" y="12388"/>
                </a:cubicBezTo>
                <a:cubicBezTo>
                  <a:pt x="8406" y="12372"/>
                  <a:pt x="8404" y="12367"/>
                  <a:pt x="8399" y="12357"/>
                </a:cubicBezTo>
              </a:path>
              <a:path w="21642" h="1446">
                <a:moveTo>
                  <a:pt x="6480" y="11371"/>
                </a:moveTo>
                <a:cubicBezTo>
                  <a:pt x="6509" y="11368"/>
                  <a:pt x="6513" y="11369"/>
                  <a:pt x="6542" y="11366"/>
                </a:cubicBezTo>
                <a:cubicBezTo>
                  <a:pt x="7260" y="11282"/>
                  <a:pt x="7943" y="11254"/>
                  <a:pt x="8664" y="11295"/>
                </a:cubicBezTo>
                <a:cubicBezTo>
                  <a:pt x="9383" y="11336"/>
                  <a:pt x="10107" y="11360"/>
                  <a:pt x="10827" y="11345"/>
                </a:cubicBezTo>
                <a:cubicBezTo>
                  <a:pt x="11629" y="11329"/>
                  <a:pt x="12438" y="11332"/>
                  <a:pt x="13239" y="11363"/>
                </a:cubicBezTo>
                <a:cubicBezTo>
                  <a:pt x="14124" y="11397"/>
                  <a:pt x="15010" y="11384"/>
                  <a:pt x="15894" y="11427"/>
                </a:cubicBezTo>
                <a:cubicBezTo>
                  <a:pt x="16722" y="11467"/>
                  <a:pt x="17533" y="11391"/>
                  <a:pt x="18360" y="11381"/>
                </a:cubicBezTo>
                <a:cubicBezTo>
                  <a:pt x="19577" y="11367"/>
                  <a:pt x="20804" y="11473"/>
                  <a:pt x="22020" y="11523"/>
                </a:cubicBezTo>
                <a:cubicBezTo>
                  <a:pt x="22526" y="11544"/>
                  <a:pt x="23055" y="11541"/>
                  <a:pt x="23542" y="11495"/>
                </a:cubicBezTo>
              </a:path>
              <a:path w="21642" h="1446">
                <a:moveTo>
                  <a:pt x="2457" y="12669"/>
                </a:moveTo>
                <a:cubicBezTo>
                  <a:pt x="2607" y="12669"/>
                  <a:pt x="2759" y="12669"/>
                  <a:pt x="2910" y="12662"/>
                </a:cubicBezTo>
                <a:cubicBezTo>
                  <a:pt x="3349" y="12642"/>
                  <a:pt x="3785" y="12700"/>
                  <a:pt x="4226" y="12692"/>
                </a:cubicBezTo>
                <a:cubicBezTo>
                  <a:pt x="4745" y="12683"/>
                  <a:pt x="5262" y="12685"/>
                  <a:pt x="5781" y="12672"/>
                </a:cubicBezTo>
                <a:cubicBezTo>
                  <a:pt x="6424" y="12656"/>
                  <a:pt x="7067" y="12629"/>
                  <a:pt x="7710" y="12636"/>
                </a:cubicBezTo>
                <a:cubicBezTo>
                  <a:pt x="8544" y="12645"/>
                  <a:pt x="9370" y="12577"/>
                  <a:pt x="10203" y="12565"/>
                </a:cubicBezTo>
                <a:cubicBezTo>
                  <a:pt x="10970" y="12554"/>
                  <a:pt x="11733" y="12590"/>
                  <a:pt x="12500" y="12560"/>
                </a:cubicBezTo>
                <a:cubicBezTo>
                  <a:pt x="12817" y="12547"/>
                  <a:pt x="13141" y="12551"/>
                  <a:pt x="13452" y="12563"/>
                </a:cubicBezTo>
                <a:cubicBezTo>
                  <a:pt x="13457" y="12563"/>
                  <a:pt x="13447" y="12563"/>
                  <a:pt x="13452" y="12563"/>
                </a:cubicBezTo>
              </a:path>
              <a:path w="21642" h="1446">
                <a:moveTo>
                  <a:pt x="12242" y="12541"/>
                </a:moveTo>
                <a:cubicBezTo>
                  <a:pt x="12246" y="12541"/>
                  <a:pt x="12247" y="12542"/>
                  <a:pt x="12250" y="12544"/>
                </a:cubicBezTo>
                <a:cubicBezTo>
                  <a:pt x="12261" y="12550"/>
                  <a:pt x="12273" y="12549"/>
                  <a:pt x="12285" y="12553"/>
                </a:cubicBezTo>
                <a:cubicBezTo>
                  <a:pt x="12297" y="12557"/>
                  <a:pt x="12307" y="12557"/>
                  <a:pt x="12320" y="12559"/>
                </a:cubicBezTo>
                <a:cubicBezTo>
                  <a:pt x="12334" y="12562"/>
                  <a:pt x="12338" y="12563"/>
                  <a:pt x="12347" y="12563"/>
                </a:cubicBezTo>
              </a:path>
              <a:path w="21642" h="1446">
                <a:moveTo>
                  <a:pt x="12546" y="12619"/>
                </a:moveTo>
                <a:cubicBezTo>
                  <a:pt x="12546" y="12611"/>
                  <a:pt x="12531" y="12613"/>
                  <a:pt x="12534" y="12592"/>
                </a:cubicBezTo>
                <a:cubicBezTo>
                  <a:pt x="12541" y="12538"/>
                  <a:pt x="12567" y="12486"/>
                  <a:pt x="12573" y="12431"/>
                </a:cubicBezTo>
                <a:cubicBezTo>
                  <a:pt x="12583" y="12343"/>
                  <a:pt x="12582" y="12249"/>
                  <a:pt x="12583" y="12160"/>
                </a:cubicBezTo>
                <a:cubicBezTo>
                  <a:pt x="12584" y="12068"/>
                  <a:pt x="12577" y="11977"/>
                  <a:pt x="12569" y="11886"/>
                </a:cubicBezTo>
                <a:cubicBezTo>
                  <a:pt x="12559" y="11766"/>
                  <a:pt x="12553" y="11475"/>
                  <a:pt x="12459" y="11386"/>
                </a:cubicBezTo>
                <a:cubicBezTo>
                  <a:pt x="12385" y="11316"/>
                  <a:pt x="12241" y="11355"/>
                  <a:pt x="12151" y="11364"/>
                </a:cubicBezTo>
                <a:cubicBezTo>
                  <a:pt x="11744" y="11404"/>
                  <a:pt x="11342" y="11451"/>
                  <a:pt x="10933" y="11463"/>
                </a:cubicBezTo>
                <a:cubicBezTo>
                  <a:pt x="10496" y="11476"/>
                  <a:pt x="10058" y="11479"/>
                  <a:pt x="9621" y="11478"/>
                </a:cubicBezTo>
                <a:cubicBezTo>
                  <a:pt x="9369" y="11477"/>
                  <a:pt x="8359" y="11314"/>
                  <a:pt x="8128" y="11509"/>
                </a:cubicBezTo>
                <a:cubicBezTo>
                  <a:pt x="8095" y="11537"/>
                  <a:pt x="8107" y="11554"/>
                  <a:pt x="8103" y="11599"/>
                </a:cubicBezTo>
                <a:cubicBezTo>
                  <a:pt x="8079" y="11857"/>
                  <a:pt x="8215" y="12170"/>
                  <a:pt x="8269" y="12421"/>
                </a:cubicBezTo>
                <a:cubicBezTo>
                  <a:pt x="8282" y="12482"/>
                  <a:pt x="8300" y="12546"/>
                  <a:pt x="8304" y="12608"/>
                </a:cubicBezTo>
                <a:cubicBezTo>
                  <a:pt x="8304" y="12613"/>
                  <a:pt x="8302" y="12604"/>
                  <a:pt x="8302" y="12609"/>
                </a:cubicBezTo>
                <a:cubicBezTo>
                  <a:pt x="8300" y="12608"/>
                  <a:pt x="8298" y="12606"/>
                  <a:pt x="8296" y="12605"/>
                </a:cubicBezTo>
              </a:path>
              <a:path w="21642" h="1446">
                <a:moveTo>
                  <a:pt x="6033" y="11322"/>
                </a:moveTo>
                <a:cubicBezTo>
                  <a:pt x="5995" y="11321"/>
                  <a:pt x="5959" y="11314"/>
                  <a:pt x="5919" y="11317"/>
                </a:cubicBezTo>
                <a:cubicBezTo>
                  <a:pt x="5466" y="11348"/>
                  <a:pt x="5018" y="11468"/>
                  <a:pt x="4563" y="11508"/>
                </a:cubicBezTo>
                <a:cubicBezTo>
                  <a:pt x="4250" y="11535"/>
                  <a:pt x="3941" y="11570"/>
                  <a:pt x="3630" y="11615"/>
                </a:cubicBezTo>
                <a:cubicBezTo>
                  <a:pt x="3493" y="11635"/>
                  <a:pt x="3366" y="11657"/>
                  <a:pt x="3235" y="11690"/>
                </a:cubicBezTo>
                <a:cubicBezTo>
                  <a:pt x="3012" y="11746"/>
                  <a:pt x="2787" y="11707"/>
                  <a:pt x="2561" y="11733"/>
                </a:cubicBezTo>
                <a:cubicBezTo>
                  <a:pt x="2391" y="11753"/>
                  <a:pt x="2159" y="11751"/>
                  <a:pt x="2011" y="11845"/>
                </a:cubicBezTo>
                <a:cubicBezTo>
                  <a:pt x="1922" y="11901"/>
                  <a:pt x="1885" y="11976"/>
                  <a:pt x="1915" y="12078"/>
                </a:cubicBezTo>
                <a:cubicBezTo>
                  <a:pt x="1946" y="12184"/>
                  <a:pt x="2067" y="12257"/>
                  <a:pt x="2155" y="12312"/>
                </a:cubicBezTo>
                <a:cubicBezTo>
                  <a:pt x="2310" y="12410"/>
                  <a:pt x="2477" y="12494"/>
                  <a:pt x="2658" y="12535"/>
                </a:cubicBezTo>
                <a:cubicBezTo>
                  <a:pt x="2993" y="12611"/>
                  <a:pt x="3374" y="12571"/>
                  <a:pt x="3715" y="12562"/>
                </a:cubicBezTo>
                <a:cubicBezTo>
                  <a:pt x="4010" y="12554"/>
                  <a:pt x="4304" y="12521"/>
                  <a:pt x="4600" y="12512"/>
                </a:cubicBezTo>
                <a:cubicBezTo>
                  <a:pt x="4728" y="12508"/>
                  <a:pt x="4855" y="12500"/>
                  <a:pt x="4983" y="12501"/>
                </a:cubicBezTo>
                <a:cubicBezTo>
                  <a:pt x="5468" y="12504"/>
                  <a:pt x="5954" y="12513"/>
                  <a:pt x="6436" y="12451"/>
                </a:cubicBezTo>
                <a:cubicBezTo>
                  <a:pt x="6561" y="12435"/>
                  <a:pt x="7053" y="12405"/>
                  <a:pt x="7111" y="12263"/>
                </a:cubicBezTo>
                <a:cubicBezTo>
                  <a:pt x="7123" y="12234"/>
                  <a:pt x="7103" y="12205"/>
                  <a:pt x="7098" y="12176"/>
                </a:cubicBezTo>
                <a:cubicBezTo>
                  <a:pt x="7087" y="12107"/>
                  <a:pt x="7039" y="12011"/>
                  <a:pt x="7005" y="11951"/>
                </a:cubicBezTo>
                <a:cubicBezTo>
                  <a:pt x="6916" y="11790"/>
                  <a:pt x="6765" y="11661"/>
                  <a:pt x="6604" y="11576"/>
                </a:cubicBezTo>
                <a:cubicBezTo>
                  <a:pt x="6459" y="11499"/>
                  <a:pt x="6271" y="11429"/>
                  <a:pt x="6110" y="11388"/>
                </a:cubicBezTo>
                <a:cubicBezTo>
                  <a:pt x="5998" y="11360"/>
                  <a:pt x="5878" y="11350"/>
                  <a:pt x="5764" y="11331"/>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essence, it stems from a recognition that reality is not simply mirrored in human understanding of it, but rather, is constructed as the mind tries to understand its own particular and personal re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reason, postmodernism is highly skeptical of explanations which claim to be valid for all groups, cultures, traditions, or races, and instead focuses on the relative truths of each per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ostmodern understanding, interpretation is everything; reality only comes into being through our interpretations of what the world means to us individually. Postmodernism relies on concrete experience over abstract principles, knowing always that the outcome of one's own experience will necessarily be fallible and relative, rather than certain and univers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modernism is "post" because it denies the existence of any ultimate principles, and it lacks the optimism of there being a scientific, philosophical, or religious truth which will explain everything for everybody - a characterisitic of the so-called "modern" mi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20:30:01Z</dcterms:created>
  <dc:creator>MARTHA PULIDO</dc:creator>
  <dc:description/>
  <dc:language>en-US</dc:language>
  <cp:lastModifiedBy>ALM</cp:lastModifiedBy>
  <cp:lastPrinted>2004-08-17T01:10:34Z</cp:lastPrinted>
  <dcterms:modified xsi:type="dcterms:W3CDTF">2020-03-26T09:20:47Z</dcterms:modified>
  <cp:revision>64</cp:revision>
  <dc:subject/>
  <dc:title>Postmodern Literary Theory and Translation</dc:title>
</cp:coreProperties>
</file>